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0F3-C7F4-4F0C-B01C-B3703652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E3D-0080-4944-B72F-D80398F0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72C-498A-4062-9878-62240181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7AC-C4DC-449F-BD71-1CE9F5B0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D7C-FEEE-4668-8053-C81F6D8C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E14-7B5D-4638-A7A5-1F1996B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166-26DF-4359-81C6-1877DF9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64F-843C-4BF9-A513-AEFF36E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0E1-7B77-4AF1-839F-8BA5B86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37-AC8F-4FF9-B624-DA54FC28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AC0-A170-4A50-BC38-F5D1027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6B4-A9DA-43EB-ABD1-6134BF83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015-1BA2-41CA-A3D6-12525501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77724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istm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1148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St. Jude Art &amp; Technolog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s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9093"/>
          <a:stretch/>
        </p:blipFill>
        <p:spPr>
          <a:xfrm>
            <a:off x="5257800" y="855720"/>
            <a:ext cx="35053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33520"/>
            <a:ext cx="16761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380880"/>
            <a:ext cx="289584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448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38088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304920"/>
            <a:ext cx="30477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Christmas Car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72200" y="45720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29400" y="236232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Fu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685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523880"/>
            <a:ext cx="73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e a Merry Christmas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22878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or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60948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Kin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219320"/>
            <a:ext cx="38862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617220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the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6248520"/>
            <a:ext cx="16765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0:51:10Z</dcterms:created>
  <dc:creator>Patrick J. Mooney</dc:creator>
  <dc:description/>
  <dc:language>en-US</dc:language>
  <cp:lastModifiedBy>Patrick J. Mooney</cp:lastModifiedBy>
  <dcterms:modified xsi:type="dcterms:W3CDTF">2011-12-15T13:22:33Z</dcterms:modified>
  <cp:revision>5</cp:revision>
  <dc:subject/>
  <dc:title>Slide 1</dc:title>
</cp:coreProperties>
</file>